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6DC-9F1D-446A-A937-83EDF55D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3E7-B6C0-4C6D-A77C-C062D55D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5F0-69F4-4AE7-AD70-2B05E6B6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D38-5973-4CD1-B1AF-ED648439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C47-AA26-457C-A0BD-21986544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E6C-53C1-4735-B668-B15CB3F4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F57-8DFC-42EA-8EDA-1AD7EC4F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128-3430-469F-95BB-050711E0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2E4-4373-45B0-B319-14A1B25F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FF8-75CA-4D01-89EE-91FE00F0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ADE-5A33-4D67-BC89-FE66CB1C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FE3-78DB-4666-B394-A9FB7D67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4180-CB1B-4647-A84C-1290B9E8E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response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l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offer 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2:37Z</dcterms:created>
  <dc:creator>Anon Anon</dc:creator>
  <dc:description/>
  <dc:language>en-US</dc:language>
  <cp:lastModifiedBy>Anon Anon</cp:lastModifiedBy>
  <dcterms:modified xsi:type="dcterms:W3CDTF">2005-08-09T05:22:07Z</dcterms:modified>
  <cp:revision>8</cp:revision>
  <dc:subject/>
  <dc:title>GPT Response (SLD-2)</dc:title>
</cp:coreProperties>
</file>